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488-C5CB-4CE3-9436-3E33D244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31E-8012-48EE-B316-912A6790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354-133B-473B-A076-0F23C903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80F-A797-4BC0-A210-ADEA1EDB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7A5-155E-4899-98B8-5F3CCD1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7B2-1A61-4737-ABB1-4E1C55D6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5E4-CB26-4C68-95AC-CD1A587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455-6744-4D82-A2D9-E7A1FDF1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BC7-A428-4B5E-A0ED-423F100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74A-8D35-4436-8245-B6820A6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6F1-4B8E-41C2-A236-DE136EC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636-CE7E-4E1F-8E52-7DB0D01C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B24-44BD-4FC4-8DEA-0C5633A28E8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Classifying Indus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4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can be classified using a four-way division (Primary, Secondary, Tertiary, Quaternar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percentage of the population of a country working in these different sectors of industry will change as the country devel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im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dustries are classified as those which produce the raw materials for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mining, quarrying, farming, fishing and forestry, all of which produce raw materials that can be processed in to a finished produ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primary s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econd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the manufacturing and assembly indus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ake raw materials and manufacture finished products from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steel manufacture, bread making and food process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second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erti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Otherwise known 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industries, and are the area of most growth in the United King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doctors, teachers, lawyers, estate agents, travel agents, accountants and police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terti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Quaternary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the newest, most hi-tech sector of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the research and development indus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include the development of new computer components and research into GM crop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in these industries are described as being in the quaternary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3:15:03Z</dcterms:created>
  <dc:creator>Dell_02</dc:creator>
  <dc:description/>
  <dc:language>en-US</dc:language>
  <cp:lastModifiedBy>Dell_02</cp:lastModifiedBy>
  <dcterms:modified xsi:type="dcterms:W3CDTF">2011-01-27T03:20:57Z</dcterms:modified>
  <cp:revision>1</cp:revision>
  <dc:subject/>
  <dc:title>Classifying Industry</dc:title>
</cp:coreProperties>
</file>